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DD33-6A2F-46C7-9195-66EAED67E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C4BD-02C6-4D86-A83E-A4C7DFD1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968C-8542-4CF1-980B-23EA2A6AA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62E7-7356-4EBE-8DDF-5A89C8FBC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F75C-B01B-4551-B4D1-E536D252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DE59-6FDA-449D-AA36-BE8F9446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92F9-B1C8-4BEB-AAE0-967C06A9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C8EC-496F-4C32-A371-B17359C4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4A3A-5B9A-49C9-8560-42622A03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E0D6-46A2-4A22-BC48-A8411E36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1A20-7E56-4CCA-BFA3-3944172C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E477-96AA-4471-9037-5845A8EB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C168-17F9-4600-A1A4-0162B685C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efly explain what is good about the following thesis stat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mages of decay and destruction in “Harlem” work together to emphasize the inevitable hopelessness of deferred revolu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peaker of “White City,” embodies the human trait of simultaneously loving the very thing that one hat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the metaphor of a dinner party, “I, Too” equates evolving racial relationships to evolving American cultural tast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hesis m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claim that is arguable and/or defend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ightful (not obvio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more than a statement of personal opi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your paper/presentation/etc a reason to ex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18:14:40Z</dcterms:created>
  <dc:creator>Administrator</dc:creator>
  <dc:description/>
  <dc:language>en-US</dc:language>
  <cp:lastModifiedBy>Administrator</cp:lastModifiedBy>
  <dcterms:modified xsi:type="dcterms:W3CDTF">2010-10-13T15:54:02Z</dcterms:modified>
  <cp:revision>4</cp:revision>
  <dc:subject/>
  <dc:title>Slide 1</dc:title>
</cp:coreProperties>
</file>